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B96-78E7-4CD0-9E64-A8910585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1186-E688-45BA-A1C4-7DACD566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0C3-392C-40A3-AC25-036EAEAD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817-BA55-4C30-BD85-FAB313F7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EC6-66EB-4B01-B0F5-EB1A495B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722-53B8-438E-91DC-D69E682F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AEE-F157-4ACB-8A21-2019A0A0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795-92F5-4BBC-884A-C7384F95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A6E-B51F-40D5-B839-E67E4D00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97C-AF5E-4401-B82F-2BA93368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9D7E-4DA3-4046-B4DC-DCF56073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724-BD8E-4545-B1A3-4F7624CA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35EB-9CDD-4C61-AF5C-D06F59039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43400" y="761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ude Mo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76920" y="1676520"/>
            <a:ext cx="3200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40- 19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onet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408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sé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tir de1890, Monet a peint les séries de tableaux, dans lesquels il a capturés le même sujet mais aux temps différents pendant la journée dans les lumières diverses. Au Musée d’Orsay à Paris, on peut voir la série des peintures de la Cathédrale de Rou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monet.rouen-cathedral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2496960" cy="3905280"/>
          </a:xfrm>
          <a:prstGeom prst="rect">
            <a:avLst/>
          </a:prstGeom>
          <a:ln w="0">
            <a:noFill/>
          </a:ln>
        </p:spPr>
      </p:pic>
      <p:pic>
        <p:nvPicPr>
          <p:cNvPr id="84" name="monet.portail-temps-gris" descr=""/>
          <p:cNvPicPr/>
          <p:nvPr/>
        </p:nvPicPr>
        <p:blipFill>
          <a:blip r:embed="rId2"/>
          <a:stretch/>
        </p:blipFill>
        <p:spPr>
          <a:xfrm>
            <a:off x="6477120" y="2666880"/>
            <a:ext cx="248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Nymphé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a fait aussi une série de peintures au sujet de son jardin à Giverny qui s’appelait les Nymphéas. L’Orangerie, un musée près du Louvre à Paris, était fait especialement pour quelques-unes de ces énormes pein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rangerie2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754520" cy="3429000"/>
          </a:xfrm>
          <a:prstGeom prst="rect">
            <a:avLst/>
          </a:prstGeom>
          <a:ln w="0">
            <a:noFill/>
          </a:ln>
        </p:spPr>
      </p:pic>
      <p:pic>
        <p:nvPicPr>
          <p:cNvPr id="88" name="monet.wl-clouds" descr=""/>
          <p:cNvPicPr/>
          <p:nvPr/>
        </p:nvPicPr>
        <p:blipFill>
          <a:blip r:embed="rId2"/>
          <a:stretch/>
        </p:blipFill>
        <p:spPr>
          <a:xfrm>
            <a:off x="5867280" y="2514600"/>
            <a:ext cx="2971800" cy="200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monet.wl-green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3017880" cy="194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mala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3505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 1883 et 1908 Monet a développé les cataractes.  Il a commencé de voir et de peintre dans les tons plus rouges et les peintures sont devenues plus abstrac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est mort à l’âge de 86 ans en 1926 et son corps est enterré dans la cimetière à Givern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onet.japanese-bridgeend" descr=""/>
          <p:cNvPicPr/>
          <p:nvPr/>
        </p:nvPicPr>
        <p:blipFill>
          <a:blip r:embed="rId1"/>
          <a:stretch/>
        </p:blipFill>
        <p:spPr>
          <a:xfrm>
            <a:off x="4038480" y="1271520"/>
            <a:ext cx="4800600" cy="3638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25780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Pont Jap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laude_Monet_Beach_at_Trouville" descr=""/>
          <p:cNvPicPr/>
          <p:nvPr/>
        </p:nvPicPr>
        <p:blipFill>
          <a:blip r:embed="rId1"/>
          <a:stretch/>
        </p:blipFill>
        <p:spPr>
          <a:xfrm>
            <a:off x="380880" y="150840"/>
            <a:ext cx="838224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fishingboatsleaveharbor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53416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kerchiefcamille" descr=""/>
          <p:cNvPicPr/>
          <p:nvPr/>
        </p:nvPicPr>
        <p:blipFill>
          <a:blip r:embed="rId1"/>
          <a:stretch/>
        </p:blipFill>
        <p:spPr>
          <a:xfrm>
            <a:off x="2109960" y="304920"/>
            <a:ext cx="5045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le%20grandquaihavre" descr=""/>
          <p:cNvPicPr/>
          <p:nvPr/>
        </p:nvPicPr>
        <p:blipFill>
          <a:blip r:embed="rId1"/>
          <a:stretch/>
        </p:blipFill>
        <p:spPr>
          <a:xfrm>
            <a:off x="685800" y="507960"/>
            <a:ext cx="79246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monet.bateau-atelier" descr=""/>
          <p:cNvPicPr/>
          <p:nvPr/>
        </p:nvPicPr>
        <p:blipFill>
          <a:blip r:embed="rId1"/>
          <a:stretch/>
        </p:blipFill>
        <p:spPr>
          <a:xfrm>
            <a:off x="1916280" y="152280"/>
            <a:ext cx="54352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monet.bathinglagrenouillere" descr=""/>
          <p:cNvPicPr/>
          <p:nvPr/>
        </p:nvPicPr>
        <p:blipFill>
          <a:blip r:embed="rId1"/>
          <a:stretch/>
        </p:blipFill>
        <p:spPr>
          <a:xfrm>
            <a:off x="380880" y="101520"/>
            <a:ext cx="838224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monet.beachstandresse" descr=""/>
          <p:cNvPicPr/>
          <p:nvPr/>
        </p:nvPicPr>
        <p:blipFill>
          <a:blip r:embed="rId1"/>
          <a:stretch/>
        </p:blipFill>
        <p:spPr>
          <a:xfrm>
            <a:off x="304920" y="303120"/>
            <a:ext cx="83055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années de sa jeunes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est né en 1840 à Par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a passé beaucoup  de sa jeunesse au Havre, un grand port en Normandie au nord de la F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2355~Jettee-du-Harvre-Posters" descr=""/>
          <p:cNvPicPr/>
          <p:nvPr/>
        </p:nvPicPr>
        <p:blipFill>
          <a:blip r:embed="rId1"/>
          <a:srcRect l="-11991" t="14679" r="24001" b="14679"/>
          <a:stretch/>
        </p:blipFill>
        <p:spPr>
          <a:xfrm>
            <a:off x="-838080" y="1905120"/>
            <a:ext cx="5419440" cy="3558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55627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jetée du Ha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monet.beach-trouville" descr=""/>
          <p:cNvPicPr/>
          <p:nvPr/>
        </p:nvPicPr>
        <p:blipFill>
          <a:blip r:embed="rId1"/>
          <a:stretch/>
        </p:blipFill>
        <p:spPr>
          <a:xfrm>
            <a:off x="1143000" y="649440"/>
            <a:ext cx="693432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monet.coquelicots" descr=""/>
          <p:cNvPicPr/>
          <p:nvPr/>
        </p:nvPicPr>
        <p:blipFill>
          <a:blip r:embed="rId1"/>
          <a:stretch/>
        </p:blipFill>
        <p:spPr>
          <a:xfrm>
            <a:off x="685800" y="409680"/>
            <a:ext cx="815328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monet.japonnaise" descr=""/>
          <p:cNvPicPr/>
          <p:nvPr/>
        </p:nvPicPr>
        <p:blipFill>
          <a:blip r:embed="rId1"/>
          <a:stretch/>
        </p:blipFill>
        <p:spPr>
          <a:xfrm>
            <a:off x="2733840" y="457200"/>
            <a:ext cx="3676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mbrell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4640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ontargent" descr=""/>
          <p:cNvPicPr/>
          <p:nvPr/>
        </p:nvPicPr>
        <p:blipFill>
          <a:blip r:embed="rId1"/>
          <a:stretch/>
        </p:blipFill>
        <p:spPr>
          <a:xfrm>
            <a:off x="609480" y="48420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carrière comm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80920" y="914040"/>
            <a:ext cx="49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père voulait qu’il devienne épicier (marchand) comme lui, mais Monet voulait étudier l’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a commencé avec les portraits, mais après  un apprentissage avec Eugène Boudin, un peintre qui lui a enseigné la joie de peintre de plein air, il a toujours préféré les paysag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onet.gaudibert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070440" cy="5334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6172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dame Gaudi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 retour à Par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1859, il étudiait à l’Atelier Suisse  à Paris et il est devenu ami de Pissarro. Après ses deux ans de service militaire qu’il a passé en Algérie, il est revenu à Paris et il a fait la connaissance de Jonkind qui lui a enseigné “voir. ”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ssarro.haymakers-rest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4038480" cy="327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e toile de Pissarro, l’ami de Mo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495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s nouveaux am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2895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1862, il est entré dans l’atelier de Gleyre à Paris où il a trouvé Renoir, Sisley et Bazille.  Voilà le coeur du groupe impressionis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hurchsissley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2030400" cy="2590920"/>
          </a:xfrm>
          <a:prstGeom prst="rect">
            <a:avLst/>
          </a:prstGeom>
          <a:ln w="0">
            <a:noFill/>
          </a:ln>
        </p:spPr>
      </p:pic>
      <p:pic>
        <p:nvPicPr>
          <p:cNvPr id="59" name="canoeist" descr=""/>
          <p:cNvPicPr/>
          <p:nvPr/>
        </p:nvPicPr>
        <p:blipFill>
          <a:blip r:embed="rId2"/>
          <a:stretch/>
        </p:blipFill>
        <p:spPr>
          <a:xfrm>
            <a:off x="3809880" y="4343400"/>
            <a:ext cx="2743200" cy="2295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9132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studio de Baz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46483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 canoïstes de Ren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3657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e église de Si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tudioBazille" descr=""/>
          <p:cNvPicPr/>
          <p:nvPr/>
        </p:nvPicPr>
        <p:blipFill>
          <a:blip r:embed="rId3"/>
          <a:stretch/>
        </p:blipFill>
        <p:spPr>
          <a:xfrm>
            <a:off x="5791320" y="1295280"/>
            <a:ext cx="3047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et s’est mari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1870, Monet s’est marié avec sa modèle Camille Doncieux.  Ils avaient deux  enfants Jean et Michel. Camille était la femme dans beaucoup de ces tableaux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onet.parasol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3535200" cy="4395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24280" y="5638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mille et J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 congé à Lond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a passé les années 1870 et 1871 à Londres avec son ami Pissarro; il a étudié les peintures de Constable et Turner et il a peint de nombreuses scènes de la vill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westminster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419360" cy="2959200"/>
          </a:xfrm>
          <a:prstGeom prst="rect">
            <a:avLst/>
          </a:prstGeom>
          <a:ln w="0">
            <a:noFill/>
          </a:ln>
        </p:spPr>
      </p:pic>
      <p:pic>
        <p:nvPicPr>
          <p:cNvPr id="71" name="parliamentsunset" descr=""/>
          <p:cNvPicPr/>
          <p:nvPr/>
        </p:nvPicPr>
        <p:blipFill>
          <a:blip r:embed="rId2"/>
          <a:stretch/>
        </p:blipFill>
        <p:spPr>
          <a:xfrm>
            <a:off x="5181480" y="4343400"/>
            <a:ext cx="2590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genteu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3886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1871juasqu’à 1878 Monet a habité Argenteuil, un village sur la Seine près de Paris.  Ici il a peint beaucoup de ses oeuvres impres-sionistes les plus célèbres. Il a été visité fréquemment par Manet, Renoir et Sisley (qui ont peint le village auss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monet.seine-argenteuil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3760920" cy="2737080"/>
          </a:xfrm>
          <a:prstGeom prst="rect">
            <a:avLst/>
          </a:prstGeom>
          <a:ln w="0">
            <a:noFill/>
          </a:ln>
        </p:spPr>
      </p:pic>
      <p:pic>
        <p:nvPicPr>
          <p:cNvPr id="75" name="pontargent" descr=""/>
          <p:cNvPicPr/>
          <p:nvPr/>
        </p:nvPicPr>
        <p:blipFill>
          <a:blip r:embed="rId2"/>
          <a:stretch/>
        </p:blipFill>
        <p:spPr>
          <a:xfrm>
            <a:off x="5181480" y="3962520"/>
            <a:ext cx="373392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r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1883 il s’est installé à Giverny, à 40 milles de Paris.  Il y a créé un fabuleux jardin qu’il adorait peintre, surtout le Pont Japonais et les nymphé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ontjap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429000" cy="3325680"/>
          </a:xfrm>
          <a:prstGeom prst="rect">
            <a:avLst/>
          </a:prstGeom>
          <a:ln w="0">
            <a:noFill/>
          </a:ln>
        </p:spPr>
      </p:pic>
      <p:pic>
        <p:nvPicPr>
          <p:cNvPr id="79" name="monet_maison_giverny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715000" y="4419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Pont Jap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8:21:42Z</dcterms:created>
  <dc:creator>dsa'ljg'prg</dc:creator>
  <dc:description/>
  <dc:language>en-US</dc:language>
  <cp:lastModifiedBy>dsa'ljg'prg</cp:lastModifiedBy>
  <dcterms:modified xsi:type="dcterms:W3CDTF">2008-06-10T09:39:02Z</dcterms:modified>
  <cp:revision>39</cp:revision>
  <dc:subject/>
  <dc:title>Claude Monet</dc:title>
</cp:coreProperties>
</file>